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A87-0E34-4D67-8276-980EB828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CBE-484F-4EFE-B730-5AF24A79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DB6-D0CC-46E8-BE64-1C839F04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883-D88A-451D-8074-77809BD0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C0CD-F103-43B3-8BD7-B02353DD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6E2A-66FB-47BF-B2B5-4C2C383B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0F13-3C33-4195-B3F6-D0804EB2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B06A-375F-40E5-98E0-03337E93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ED0-F5D3-4AB1-BD35-56A653F2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75B1-2096-4B4F-A12A-81F3896B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0660-9A37-4DAD-9AAE-9E843320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8D9-03EF-4046-B038-47119BCE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461C-A14E-47CF-AF19-D2F8C4D4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0FAB-FAD4-4CA2-9415-4506C32C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175C-6A73-4FE2-A448-CEF75374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EAE1-2AA3-42A9-86F2-872ED94F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53DA-8F40-44E6-A5BE-8F11CC0A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5DF-92E9-41AB-A95B-B1928BFF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4218-3C32-404E-851D-485629C1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2610-1E86-4659-A145-30E2C21F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30C-9793-4E87-B18C-81182DCE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7D0-B8FB-414A-934D-57733F60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9AE-2B5A-4635-B951-71C1CFBF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8EE-78D1-4851-B44B-14312425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9496-5160-4D0F-9513-7B162F9319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FBF8-A9BE-45E7-A11A-896286FB5B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Negative externalities of fast food Consump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5589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John Hug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3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352680" y="2533680"/>
            <a:ext cx="2438640" cy="1341360"/>
          </a:xfrm>
          <a:prstGeom prst="rect">
            <a:avLst/>
          </a:prstGeom>
          <a:ln w="0">
            <a:noFill/>
          </a:ln>
        </p:spPr>
      </p:pic>
    </p:spTree>
  </p:cSld>
  <p:transition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346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gative externalities of Fast Food Consump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95640" y="1989000"/>
          <a:ext cx="440352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440352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987640" y="2565360"/>
            <a:ext cx="2232000" cy="2016000"/>
          </a:xfrm>
          <a:custGeom>
            <a:avLst/>
            <a:gdLst/>
            <a:ahLst/>
            <a:rect l="l" t="t" r="r" b="b"/>
            <a:pathLst>
              <a:path w="1452" h="1316">
                <a:moveTo>
                  <a:pt x="0" y="1316"/>
                </a:moveTo>
                <a:cubicBezTo>
                  <a:pt x="332" y="1266"/>
                  <a:pt x="665" y="1217"/>
                  <a:pt x="907" y="998"/>
                </a:cubicBezTo>
                <a:cubicBezTo>
                  <a:pt x="1149" y="779"/>
                  <a:pt x="1399" y="174"/>
                  <a:pt x="145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342900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5229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565360"/>
            <a:ext cx="1942920" cy="1368360"/>
          </a:xfrm>
          <a:custGeom>
            <a:avLst/>
            <a:gdLst/>
            <a:ahLst/>
            <a:rect l="l" t="t" r="r" b="b"/>
            <a:pathLst>
              <a:path w="1451" h="998">
                <a:moveTo>
                  <a:pt x="0" y="0"/>
                </a:moveTo>
                <a:cubicBezTo>
                  <a:pt x="196" y="325"/>
                  <a:pt x="393" y="650"/>
                  <a:pt x="635" y="816"/>
                </a:cubicBezTo>
                <a:cubicBezTo>
                  <a:pt x="877" y="982"/>
                  <a:pt x="1383" y="998"/>
                  <a:pt x="1451" y="9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3645000"/>
            <a:ext cx="0" cy="1512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3645000"/>
            <a:ext cx="2160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5661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2349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C=SM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3716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gative externalities of Fast Food Consump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195640" y="1989000"/>
          <a:ext cx="440352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440352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987640" y="2565360"/>
            <a:ext cx="2376360" cy="2087640"/>
          </a:xfrm>
          <a:custGeom>
            <a:avLst/>
            <a:gdLst/>
            <a:ahLst/>
            <a:rect l="l" t="t" r="r" b="b"/>
            <a:pathLst>
              <a:path w="1860" h="1224">
                <a:moveTo>
                  <a:pt x="0" y="0"/>
                </a:moveTo>
                <a:cubicBezTo>
                  <a:pt x="208" y="329"/>
                  <a:pt x="416" y="658"/>
                  <a:pt x="726" y="862"/>
                </a:cubicBezTo>
                <a:cubicBezTo>
                  <a:pt x="1036" y="1066"/>
                  <a:pt x="1792" y="1171"/>
                  <a:pt x="1860" y="12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87640" y="2565360"/>
            <a:ext cx="2232000" cy="2016000"/>
          </a:xfrm>
          <a:custGeom>
            <a:avLst/>
            <a:gdLst/>
            <a:ahLst/>
            <a:rect l="l" t="t" r="r" b="b"/>
            <a:pathLst>
              <a:path w="1452" h="1316">
                <a:moveTo>
                  <a:pt x="0" y="1316"/>
                </a:moveTo>
                <a:cubicBezTo>
                  <a:pt x="332" y="1266"/>
                  <a:pt x="665" y="1217"/>
                  <a:pt x="907" y="998"/>
                </a:cubicBezTo>
                <a:cubicBezTo>
                  <a:pt x="1149" y="779"/>
                  <a:pt x="1399" y="174"/>
                  <a:pt x="145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4221000"/>
            <a:ext cx="0" cy="9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221000"/>
            <a:ext cx="1655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342900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515772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565360"/>
            <a:ext cx="1942920" cy="1368360"/>
          </a:xfrm>
          <a:custGeom>
            <a:avLst/>
            <a:gdLst/>
            <a:ahLst/>
            <a:rect l="l" t="t" r="r" b="b"/>
            <a:pathLst>
              <a:path w="1451" h="998">
                <a:moveTo>
                  <a:pt x="0" y="0"/>
                </a:moveTo>
                <a:cubicBezTo>
                  <a:pt x="196" y="325"/>
                  <a:pt x="393" y="650"/>
                  <a:pt x="635" y="816"/>
                </a:cubicBezTo>
                <a:cubicBezTo>
                  <a:pt x="877" y="982"/>
                  <a:pt x="1383" y="998"/>
                  <a:pt x="1451" y="9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645000"/>
            <a:ext cx="0" cy="1512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3645000"/>
            <a:ext cx="2160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5661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400536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157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2349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C=SM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0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443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a result of consumption, spillover costs such as increase public healthcare costs are lumped onto third parties (the governme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social marginal benefit is less than the private marginal benefit of consumption. This has lead to fast food being over consumed relative to the social optimu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fore, fast food goods are underpriced and there will be a negative externality of this over consumption that will result in a dead weight loss of economic welfare, shown by triangle ABC on the grap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ad weight loss to economy as a result of over consumption of fast foo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124000" y="2205000"/>
          <a:ext cx="440388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205000"/>
                    <a:ext cx="4403880" cy="359568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2987640" y="2565360"/>
            <a:ext cx="2376360" cy="2087640"/>
          </a:xfrm>
          <a:custGeom>
            <a:avLst/>
            <a:gdLst/>
            <a:ahLst/>
            <a:rect l="l" t="t" r="r" b="b"/>
            <a:pathLst>
              <a:path w="1860" h="1224">
                <a:moveTo>
                  <a:pt x="0" y="0"/>
                </a:moveTo>
                <a:cubicBezTo>
                  <a:pt x="208" y="329"/>
                  <a:pt x="416" y="658"/>
                  <a:pt x="726" y="862"/>
                </a:cubicBezTo>
                <a:cubicBezTo>
                  <a:pt x="1036" y="1066"/>
                  <a:pt x="1792" y="1171"/>
                  <a:pt x="1860" y="12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2565360"/>
            <a:ext cx="2232000" cy="2016000"/>
          </a:xfrm>
          <a:custGeom>
            <a:avLst/>
            <a:gdLst/>
            <a:ahLst/>
            <a:rect l="l" t="t" r="r" b="b"/>
            <a:pathLst>
              <a:path w="1452" h="1316">
                <a:moveTo>
                  <a:pt x="0" y="1316"/>
                </a:moveTo>
                <a:cubicBezTo>
                  <a:pt x="332" y="1266"/>
                  <a:pt x="665" y="1217"/>
                  <a:pt x="907" y="998"/>
                </a:cubicBezTo>
                <a:cubicBezTo>
                  <a:pt x="1149" y="779"/>
                  <a:pt x="1399" y="174"/>
                  <a:pt x="1452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4221000"/>
            <a:ext cx="0" cy="936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4221000"/>
            <a:ext cx="16556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0920" y="3429000"/>
            <a:ext cx="6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515772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f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2565360"/>
            <a:ext cx="1942920" cy="1368360"/>
          </a:xfrm>
          <a:custGeom>
            <a:avLst/>
            <a:gdLst/>
            <a:ahLst/>
            <a:rect l="l" t="t" r="r" b="b"/>
            <a:pathLst>
              <a:path w="1451" h="998">
                <a:moveTo>
                  <a:pt x="0" y="0"/>
                </a:moveTo>
                <a:cubicBezTo>
                  <a:pt x="196" y="325"/>
                  <a:pt x="393" y="650"/>
                  <a:pt x="635" y="816"/>
                </a:cubicBezTo>
                <a:cubicBezTo>
                  <a:pt x="877" y="982"/>
                  <a:pt x="1383" y="998"/>
                  <a:pt x="1451" y="9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3645000"/>
            <a:ext cx="0" cy="1512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3645000"/>
            <a:ext cx="216036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566100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005360"/>
            <a:ext cx="57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51577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2349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C=SM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036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92720" y="4437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716360" y="364500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6308640"/>
            <a:ext cx="0" cy="0"/>
          </a:xfrm>
          <a:prstGeom prst="line">
            <a:avLst/>
          </a:prstGeom>
          <a:ln w="7632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3429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03:05:36Z</dcterms:created>
  <dc:creator>Tim</dc:creator>
  <dc:description/>
  <dc:language>en-US</dc:language>
  <cp:lastModifiedBy>Tim</cp:lastModifiedBy>
  <dcterms:modified xsi:type="dcterms:W3CDTF">2008-07-24T08:23:33Z</dcterms:modified>
  <cp:revision>7</cp:revision>
  <dc:subject/>
  <dc:title>The Negative externalities of fast food Consumption</dc:title>
</cp:coreProperties>
</file>